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22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34C0-E3F5-47A6-AC6E-E7DE625402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AD57-81D1-478E-9B65-DE130891FA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2A4C-C253-458C-8108-5BFA76C0A5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A527-C87E-4229-B0A5-8EEF4DA515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914F-D561-47B7-9DE5-90668B2C0F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209D-1636-467F-BCE7-4A5662578E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3F02-C214-4CE3-83ED-B81A02FC2F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FB8A-062A-4794-9300-F0573A38C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6EDC-4D18-4911-ACAC-21AB878939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6CCF-41C4-4EC6-8DC8-A98552706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E948-09B6-4FF3-91DC-40F7D465D5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FC17-E27D-41AD-85ED-16078AC55F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17B2-B95A-4BB8-B9CF-2664DAFC63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A827-F06E-45DE-A111-06E3B9AB88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FDCA-8DD4-4D15-9A27-801CB320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DA96-C35C-487A-9995-10F957A7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AE51-520E-4AB2-A60A-AADB9BFD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294F-93E9-4E7F-86F9-27386FCDF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D10A-B36E-4C9D-9A1B-36D1DAB15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7995-34D1-4E28-871B-B8D27365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6546-0963-4DA3-B664-CCC56862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8045-CA35-4992-9A0A-DFB4298A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AED5-2D97-4FC7-B443-EB9D6914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4636-BA07-4849-A552-2C4F4BBD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0478-A71A-4083-964E-ECC80033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3FBF-AD76-4649-AF6B-185DBB65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852A-72B0-4553-AD45-1238210E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D2B9-5B7A-4822-8B0C-4732B0FD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5CBF-7413-43E5-A58A-4B21F0BD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64B1-BA24-4144-B414-BAAB69196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BFFC-E8E3-4545-93B2-7A736E160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26E19-A7E9-4C73-8428-29637169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205BA-ED09-43A6-862F-FAF4AE6B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9B8CF-BA2A-4957-9133-B73A7790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0C8B9-BA21-4C55-B340-CD32B4BA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6B979-316C-45DE-BC2F-FCD4C8A8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7688-DFA9-4677-8401-E0D8B877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AE7E7-8AC5-4904-B5DA-E0374C00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CAB06-5482-4E42-83ED-1FFCB85B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229C5-7203-42E7-ABE2-FCDD82A5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CCA01-5034-49CD-B006-BC16E025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EC015-3DC6-4A9D-BD10-8133C13F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356E1-B332-40C3-A898-D8FBAF986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59C4F-456E-4E79-9462-97E7FF02C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6F1EB-AEE1-4F5D-8755-0A10C876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C0369-5E1A-4080-9915-7FAD6B2A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C857A-B5AE-44EC-B280-4F83E48D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68EB-2A43-4964-9ECE-986CCC9D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2095A-9FC3-4D59-8C0C-83BE263D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D885B-DD83-4EF3-9B13-C6DDC284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9652D-E0DC-46D8-B074-FBC63C52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B824E-74D7-463A-ACE5-946046F0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167D2-5B77-4100-8565-F8BD57B9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D95E6-DCAC-4E44-8AEB-2197C602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C0CD9-85EC-4A54-A781-4F3EB442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9ACC3-91F5-4CA0-A144-EFC78DC26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5A862-C8CA-4407-8475-0EFECE084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0E8E7-BB26-40A0-BF10-B4CF6113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0DB2-BE0E-4F21-B0AD-73331E8F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56583-15E2-4EB6-85C9-325E0DBA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CA0AE-43D7-444A-B339-2DACC6A7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5D81A-FFCE-4F75-8BF2-DFA1493B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35558-FE58-4893-A316-E950B902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D547D-3218-43E3-99D3-59DD918E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B94AE-3532-48BD-A619-82320F57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536E9-6D24-43D5-AA41-AE3050AB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FBA18-B38E-4E06-89EE-563D4F0D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57B12-DFE6-4DFD-9115-5E918639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4DD8E-641E-463F-9C1C-52FD9E5EF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D300-1189-4502-9052-BEE5AC3E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9AC17-CAB4-4A1C-A040-3E3A561EA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74CE1-9F38-42B6-93F7-DCC7CB3F5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703B4-F78F-429A-913E-F01B6268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38892-2E68-45B9-81DC-819AAF39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7728C-BBC4-474E-88BC-DAF96F24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B08FD-721C-40DB-B45B-B6DD9294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381AF-640D-4F94-98E4-983FDC74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058CB-267B-4FAA-997E-A5511841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5612B-0C0F-49A7-ADAF-78A9BD96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822ED-70C8-4507-8993-4C303905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A1DE-DCB2-47CD-B335-3281D2ED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419EC-C88B-439D-A6A5-5704AEFA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C6F90-D960-4F67-BE28-54AAAB42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A0A0C-8875-43F4-9817-D9E21D877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B5B8D-9396-421B-BAF8-8317E75B0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ECDF7-17E8-4B57-B956-B9D81579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3A33C-7AE8-42A6-A76E-C6338A4C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114AB-3CB4-44B8-95D9-15B7F65E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28EF1-CAE0-4CCD-B4CB-2195A190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441E1-6801-4EC6-955E-AA9579D1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B494E-DCD7-4116-BDF2-7EAB534B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015B-FBDE-4A74-B20B-33B9029E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C1359-2A7C-4BDE-8FA2-C04176F8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4DDE4-18D8-44C1-A588-3A597D80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CF5DE-84C8-4D99-AC34-6190D5C1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7E41F-38DF-497F-82D9-6B2C66FF4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9AFFC-5708-409F-B96B-CE452C53A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34BD7-3525-4D47-B192-E9C9F4ED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74B59-EEB3-4537-956B-278AB3D1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FDB57-44D2-4613-915B-D6A89FC4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6D180-B761-432B-92FD-FA30DF1D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64E46-B6D9-4457-B1C3-5AB32E0D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2E68-C2A5-4746-B5A4-982D17A6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14F1C-6CC0-4B5E-94A6-6AA8BF81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BA551-330E-425C-B78F-87A724B3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B0CDC-6F21-4EC7-888F-DCF1CDEA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CDD52-5B50-4F87-B8BF-D9BEDF58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23221-7FE8-4BDB-92D6-5C004426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6333B-C094-403A-A7ED-D5074AD4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7D1A9-F982-4FC5-B3A0-F4EA5C9CB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E19A-18B5-4769-855E-44F48A6FD8D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AC58-E41E-4D0E-91D0-968A5C89394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632E-0A96-4F39-9D04-5AAB0AE7689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B82D-4260-477E-9A3F-E55AB102E30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029A-830E-49AE-95BD-A6F91AEFD34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7155-8ED4-412C-A0CD-63FAB9C671F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7F7D-59CA-4717-9E6F-CF858544CD0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D39D-8CF3-4505-9953-8086CA03938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v2ALpg1HaYs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h4QEzJe6_ok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46"/>
                </a:solidFill>
                <a:latin typeface="Lucida Sans Unicode"/>
              </a:rPr>
              <a:t>Subject Pronouns &amp; Ser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o be” is the hardest verb in English to understand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hy do we use “ser”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o describe people or thing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o tell what someone or something is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 </a:t>
            </a:r>
            <a:r>
              <a:rPr b="0" lang="en-US" sz="2300" spc="-1" strike="noStrike">
                <a:solidFill>
                  <a:srgbClr val="ff0000"/>
                </a:solidFill>
                <a:latin typeface="Lucida Sans Unicode"/>
              </a:rPr>
              <a:t>am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ni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aria </a:t>
            </a:r>
            <a:r>
              <a:rPr b="0" lang="en-US" sz="2300" spc="-1" strike="noStrike">
                <a:solidFill>
                  <a:srgbClr val="ff0000"/>
                </a:solidFill>
                <a:latin typeface="Lucida Sans Unicode"/>
              </a:rPr>
              <a:t>i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tal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e </a:t>
            </a:r>
            <a:r>
              <a:rPr b="0" lang="en-US" sz="2300" spc="-1" strike="noStrike">
                <a:solidFill>
                  <a:srgbClr val="ff0000"/>
                </a:solidFill>
                <a:latin typeface="Lucida Sans Unicode"/>
              </a:rPr>
              <a:t>are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doctors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770"/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770" fill="hold"/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0" dur="770" fill="hold"/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2" dur="770" fill="hold"/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3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272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Sans Unicode"/>
              </a:rPr>
              <a:t>English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 Unicode"/>
              </a:rPr>
              <a:t>Spanish 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Picture 2" descr="C:\Users\Crystal\Pictures\conjugation chart.jpg"/>
          <p:cNvPicPr/>
          <p:nvPr/>
        </p:nvPicPr>
        <p:blipFill>
          <a:blip r:embed="rId3"/>
          <a:stretch/>
        </p:blipFill>
        <p:spPr>
          <a:xfrm>
            <a:off x="152280" y="1981080"/>
            <a:ext cx="3733920" cy="26672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C:\Users\Crystal\Pictures\conjugation chart.jpg"/>
          <p:cNvPicPr/>
          <p:nvPr/>
        </p:nvPicPr>
        <p:blipFill>
          <a:blip r:embed="rId4"/>
          <a:stretch/>
        </p:blipFill>
        <p:spPr>
          <a:xfrm>
            <a:off x="4343400" y="198108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609480" y="1752480"/>
            <a:ext cx="990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m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09480" y="2819520"/>
            <a:ext cx="99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r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85800" y="3733920"/>
            <a:ext cx="99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2133720" y="1828800"/>
            <a:ext cx="99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r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2133720" y="2819520"/>
            <a:ext cx="99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r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2133720" y="3733920"/>
            <a:ext cx="99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r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800600" y="1981080"/>
            <a:ext cx="990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oy</a:t>
            </a:r>
            <a:endParaRPr b="0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800600" y="2895480"/>
            <a:ext cx="990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res</a:t>
            </a:r>
            <a:endParaRPr b="0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800600" y="3733920"/>
            <a:ext cx="99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s</a:t>
            </a:r>
            <a:endParaRPr b="0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248520" y="1981080"/>
            <a:ext cx="1600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omos</a:t>
            </a:r>
            <a:endParaRPr b="0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248520" y="2819520"/>
            <a:ext cx="1218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3366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ois</a:t>
            </a:r>
            <a:endParaRPr b="0" lang="en-US" sz="1800" spc="1" strike="noStrike">
              <a:ln w="12600">
                <a:solidFill>
                  <a:srgbClr val="993366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6248520" y="3809880"/>
            <a:ext cx="99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on</a:t>
            </a:r>
            <a:endParaRPr b="0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Title 1" descr=""/>
          <p:cNvPicPr/>
          <p:nvPr/>
        </p:nvPicPr>
        <p:blipFill>
          <a:blip r:embed="rId1"/>
          <a:stretch/>
        </p:blipFill>
        <p:spPr>
          <a:xfrm>
            <a:off x="298440" y="231840"/>
            <a:ext cx="8461440" cy="11952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Users\Crystal\Pictures\conjugation chart.jpg"/>
          <p:cNvPicPr/>
          <p:nvPr/>
        </p:nvPicPr>
        <p:blipFill>
          <a:blip r:embed="rId2"/>
          <a:stretch/>
        </p:blipFill>
        <p:spPr>
          <a:xfrm>
            <a:off x="1143000" y="1523880"/>
            <a:ext cx="6858000" cy="4286520"/>
          </a:xfrm>
          <a:prstGeom prst="rect">
            <a:avLst/>
          </a:prstGeom>
          <a:ln w="0">
            <a:noFill/>
          </a:ln>
        </p:spPr>
      </p:pic>
      <p:pic>
        <p:nvPicPr>
          <p:cNvPr id="437" name="Rectangle 7" descr=""/>
          <p:cNvPicPr/>
          <p:nvPr/>
        </p:nvPicPr>
        <p:blipFill>
          <a:blip r:embed="rId3"/>
          <a:stretch/>
        </p:blipFill>
        <p:spPr>
          <a:xfrm>
            <a:off x="835200" y="1249200"/>
            <a:ext cx="1079280" cy="513000"/>
          </a:xfrm>
          <a:prstGeom prst="rect">
            <a:avLst/>
          </a:prstGeom>
          <a:ln w="0">
            <a:noFill/>
          </a:ln>
        </p:spPr>
      </p:pic>
      <p:pic>
        <p:nvPicPr>
          <p:cNvPr id="438" name="Rectangle 8" descr=""/>
          <p:cNvPicPr/>
          <p:nvPr/>
        </p:nvPicPr>
        <p:blipFill>
          <a:blip r:embed="rId4"/>
          <a:stretch/>
        </p:blipFill>
        <p:spPr>
          <a:xfrm>
            <a:off x="878040" y="2773440"/>
            <a:ext cx="981000" cy="512640"/>
          </a:xfrm>
          <a:prstGeom prst="rect">
            <a:avLst/>
          </a:prstGeom>
          <a:ln w="0">
            <a:noFill/>
          </a:ln>
        </p:spPr>
      </p:pic>
      <p:pic>
        <p:nvPicPr>
          <p:cNvPr id="439" name="Rectangle 9" descr=""/>
          <p:cNvPicPr/>
          <p:nvPr/>
        </p:nvPicPr>
        <p:blipFill>
          <a:blip r:embed="rId5"/>
          <a:stretch/>
        </p:blipFill>
        <p:spPr>
          <a:xfrm>
            <a:off x="115920" y="4145040"/>
            <a:ext cx="2414520" cy="512640"/>
          </a:xfrm>
          <a:prstGeom prst="rect">
            <a:avLst/>
          </a:prstGeom>
          <a:ln w="0">
            <a:noFill/>
          </a:ln>
        </p:spPr>
      </p:pic>
      <p:pic>
        <p:nvPicPr>
          <p:cNvPr id="440" name="Rectangle 10" descr=""/>
          <p:cNvPicPr/>
          <p:nvPr/>
        </p:nvPicPr>
        <p:blipFill>
          <a:blip r:embed="rId6"/>
          <a:stretch/>
        </p:blipFill>
        <p:spPr>
          <a:xfrm>
            <a:off x="4340160" y="1249200"/>
            <a:ext cx="1981440" cy="513000"/>
          </a:xfrm>
          <a:prstGeom prst="rect">
            <a:avLst/>
          </a:prstGeom>
          <a:ln w="0">
            <a:noFill/>
          </a:ln>
        </p:spPr>
      </p:pic>
      <p:pic>
        <p:nvPicPr>
          <p:cNvPr id="441" name="Rectangle 11" descr=""/>
          <p:cNvPicPr/>
          <p:nvPr/>
        </p:nvPicPr>
        <p:blipFill>
          <a:blip r:embed="rId7"/>
          <a:stretch/>
        </p:blipFill>
        <p:spPr>
          <a:xfrm>
            <a:off x="4383000" y="2773440"/>
            <a:ext cx="1706760" cy="512640"/>
          </a:xfrm>
          <a:prstGeom prst="rect">
            <a:avLst/>
          </a:prstGeom>
          <a:ln w="0">
            <a:noFill/>
          </a:ln>
        </p:spPr>
      </p:pic>
      <p:pic>
        <p:nvPicPr>
          <p:cNvPr id="442" name="Rectangle 12" descr=""/>
          <p:cNvPicPr/>
          <p:nvPr/>
        </p:nvPicPr>
        <p:blipFill>
          <a:blip r:embed="rId8"/>
          <a:stretch/>
        </p:blipFill>
        <p:spPr>
          <a:xfrm>
            <a:off x="4243320" y="4145040"/>
            <a:ext cx="3363840" cy="51264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2514600" y="1828800"/>
            <a:ext cx="666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2362320" y="3048120"/>
            <a:ext cx="838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r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2590920" y="4572000"/>
            <a:ext cx="666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5257800" y="1905120"/>
            <a:ext cx="1523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mo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5257800" y="3276720"/>
            <a:ext cx="1219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i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5410080" y="4876920"/>
            <a:ext cx="1067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8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8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8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8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8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8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8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Grammar Video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youtube.com/watch?v=v2ALpg1HaY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Yo ___________ de Perú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I am from Perú.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María _______ de Colombia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María is from Colombia.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Nosotros __________ de Uruguay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We are from Uruguay.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Practica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. Fill in the blan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arlos y Paco ________ de Venezuela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ina y yo __________ de Cuba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ra. Rodriquez __________ maestra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Los chicos _________ estudiante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II. Translat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 am from Puerto Rico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girls are friend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e are from Bolivia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Practica (cont.)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II. Answer the ques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¿Eres de Cuba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¿Son Miguel y Juan de Nicaragua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¿Eres doctor o estudiante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hat does “ser” mean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hy do we use “ser”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How do we conjugate “ser”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 rot="20416200">
            <a:off x="47160" y="3581280"/>
            <a:ext cx="9096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ime to Practice what you have learned!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87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Speaking and Writing Practic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raw a cha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k 10 people where they are from in Spanish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ord the information on your char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ce you have 10 have a seat and wait until everyone is finished you will write a story in completely in Spanish based on the information that you have gathered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Exampl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ranslate!!!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Hello, my name is… I have (yo tengo) 10 friends. We are from different places (lugares diferentes). [Write sentences that describe where you all are from based on your results]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457200" y="1481040"/>
          <a:ext cx="4038480" cy="40482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El estudi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Es d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igu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rento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u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ollocksvill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ivi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aysvill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a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ew Ber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ili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rento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rento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oy de New Ber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</a:t>
            </a:r>
            <a:r>
              <a:rPr b="1" i="1" lang="en-US" sz="2700" spc="-1" strike="noStrike">
                <a:solidFill>
                  <a:srgbClr val="00b050"/>
                </a:solidFill>
                <a:latin typeface="Lucida Sans Unicode"/>
              </a:rPr>
              <a:t>complet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sentences in Spanish must have a _________ and a _______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What is a subject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ho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r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ha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he sentence is talking abou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jemplo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ria is nice.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bj. 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tore is big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bj. 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0" name="Rectangle 3" descr=""/>
          <p:cNvPicPr/>
          <p:nvPr/>
        </p:nvPicPr>
        <p:blipFill>
          <a:blip r:embed="rId2"/>
          <a:stretch/>
        </p:blipFill>
        <p:spPr>
          <a:xfrm>
            <a:off x="1139760" y="1779480"/>
            <a:ext cx="1725840" cy="519120"/>
          </a:xfrm>
          <a:prstGeom prst="rect">
            <a:avLst/>
          </a:prstGeom>
          <a:ln w="0">
            <a:noFill/>
          </a:ln>
        </p:spPr>
      </p:pic>
      <p:pic>
        <p:nvPicPr>
          <p:cNvPr id="381" name="Rectangle 4" descr=""/>
          <p:cNvPicPr/>
          <p:nvPr/>
        </p:nvPicPr>
        <p:blipFill>
          <a:blip r:embed="rId3"/>
          <a:stretch/>
        </p:blipFill>
        <p:spPr>
          <a:xfrm>
            <a:off x="3925800" y="1779480"/>
            <a:ext cx="10540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8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bject pronouns </a:t>
            </a:r>
            <a:r>
              <a:rPr b="1" lang="en-US" sz="3200" spc="-1" strike="noStrike">
                <a:solidFill>
                  <a:srgbClr val="ff0000"/>
                </a:solidFill>
                <a:latin typeface="Lucida Sans Unicode"/>
              </a:rPr>
              <a:t>replac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ubject but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do not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ange the meaning of the sentenc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jemplo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ria is ni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boys are tall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"/>
          <p:cNvPicPr/>
          <p:nvPr/>
        </p:nvPicPr>
        <p:blipFill>
          <a:blip r:embed="rId2"/>
          <a:stretch/>
        </p:blipFill>
        <p:spPr>
          <a:xfrm>
            <a:off x="1447920" y="1295280"/>
            <a:ext cx="6429240" cy="421956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2362320" y="1600200"/>
            <a:ext cx="1066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Yo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514600" y="2971800"/>
            <a:ext cx="1066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828800" y="4191120"/>
            <a:ext cx="990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Él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828800" y="4952880"/>
            <a:ext cx="10666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lla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200400" y="4572000"/>
            <a:ext cx="10666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Uste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5334120" y="1676520"/>
            <a:ext cx="1600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Nosotros(as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181480" y="289548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Vosotros(as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876920" y="4876920"/>
            <a:ext cx="1218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lla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876920" y="4191120"/>
            <a:ext cx="1295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llo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400800" y="449568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Ustede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228600" y="1600200"/>
            <a:ext cx="1933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st Person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04920" y="2971800"/>
            <a:ext cx="1933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nd Person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04920" y="4419720"/>
            <a:ext cx="1933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rd Person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438280" y="228600"/>
            <a:ext cx="1571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ingular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257800" y="380880"/>
            <a:ext cx="1571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lural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Susana is tall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Liliana and Juan are friend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The boys are in the park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elipe lives in a big white house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You are very nice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le 2" descr=""/>
          <p:cNvPicPr/>
          <p:nvPr/>
        </p:nvPicPr>
        <p:blipFill>
          <a:blip r:embed="rId1"/>
          <a:stretch/>
        </p:blipFill>
        <p:spPr>
          <a:xfrm>
            <a:off x="225360" y="195120"/>
            <a:ext cx="84679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What is a subjec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What do you need in order to create a complete sentenc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What are subject pronoun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What are your subject pronouns in Spanish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64646"/>
                </a:solidFill>
                <a:latin typeface="Lucida Sans Unicode"/>
              </a:rPr>
              <a:t>LOS VERBOS </a:t>
            </a:r>
            <a:br>
              <a:rPr sz="3700"/>
            </a:br>
            <a:r>
              <a:rPr b="1" lang="en-US" sz="3700" spc="-1" strike="noStrike">
                <a:solidFill>
                  <a:srgbClr val="464646"/>
                </a:solidFill>
                <a:latin typeface="Lucida Sans Unicode"/>
              </a:rPr>
              <a:t>(That’s What’s Happening!)</a:t>
            </a: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youtube.com/watch?v=h4QEzJe6_o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verb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 Spanish end in 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–ar/-er/-i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canno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have a complete sentence without a subject and a 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conjugate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erb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unconjugated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m of the verb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identify the infinitive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1" name="Rectangle 3" descr=""/>
          <p:cNvPicPr/>
          <p:nvPr/>
        </p:nvPicPr>
        <p:blipFill>
          <a:blip r:embed="rId2"/>
          <a:stretch/>
        </p:blipFill>
        <p:spPr>
          <a:xfrm>
            <a:off x="1822320" y="2816280"/>
            <a:ext cx="1878120" cy="865080"/>
          </a:xfrm>
          <a:prstGeom prst="rect">
            <a:avLst/>
          </a:prstGeom>
          <a:ln w="0">
            <a:noFill/>
          </a:ln>
        </p:spPr>
      </p:pic>
      <p:pic>
        <p:nvPicPr>
          <p:cNvPr id="412" name="Rectangle 4" descr=""/>
          <p:cNvPicPr/>
          <p:nvPr/>
        </p:nvPicPr>
        <p:blipFill>
          <a:blip r:embed="rId3"/>
          <a:stretch/>
        </p:blipFill>
        <p:spPr>
          <a:xfrm>
            <a:off x="5022720" y="2822400"/>
            <a:ext cx="1816200" cy="865440"/>
          </a:xfrm>
          <a:prstGeom prst="rect">
            <a:avLst/>
          </a:prstGeom>
          <a:ln w="0">
            <a:noFill/>
          </a:ln>
        </p:spPr>
      </p:pic>
      <p:pic>
        <p:nvPicPr>
          <p:cNvPr id="413" name="Rectangle 5" descr=""/>
          <p:cNvPicPr/>
          <p:nvPr/>
        </p:nvPicPr>
        <p:blipFill>
          <a:blip r:embed="rId4"/>
          <a:stretch/>
        </p:blipFill>
        <p:spPr>
          <a:xfrm>
            <a:off x="1663560" y="4121280"/>
            <a:ext cx="1592280" cy="858600"/>
          </a:xfrm>
          <a:prstGeom prst="rect">
            <a:avLst/>
          </a:prstGeom>
          <a:ln w="0">
            <a:noFill/>
          </a:ln>
        </p:spPr>
      </p:pic>
      <p:pic>
        <p:nvPicPr>
          <p:cNvPr id="414" name="Rectangle 6" descr=""/>
          <p:cNvPicPr/>
          <p:nvPr/>
        </p:nvPicPr>
        <p:blipFill>
          <a:blip r:embed="rId5"/>
          <a:stretch/>
        </p:blipFill>
        <p:spPr>
          <a:xfrm>
            <a:off x="4718160" y="3968640"/>
            <a:ext cx="246852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4T16:49:16Z</dcterms:created>
  <dc:creator>Crystal</dc:creator>
  <dc:description/>
  <dc:language>en-US</dc:language>
  <cp:lastModifiedBy>ctaylor-simon</cp:lastModifiedBy>
  <dcterms:modified xsi:type="dcterms:W3CDTF">2011-10-04T14:29:12Z</dcterms:modified>
  <cp:revision>41</cp:revision>
  <dc:subject/>
  <dc:title>Slide 1</dc:title>
</cp:coreProperties>
</file>